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88BD-7071-4BA2-92C5-37F39C18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6D6-36CF-4EFD-8C84-05455974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522-524F-4761-9F8C-F3FBE68B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CDB-D355-4EF1-A5B8-C6B85C5F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E1C4-D2AE-4EFD-8E4B-ACA6C200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4134-3195-45AC-8AD6-60726F57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933B-3881-40AE-9B68-85E48767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2853-FBEB-4BE9-A3FE-352F18B7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AFDE-7D3F-4CC6-8BD1-B2DB0CB8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3A9E-2380-48A0-B0E3-6DEB45F4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7D42-7B6A-46C4-BA58-A2D97BF9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459-A4B1-42D4-8D11-5265652E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D44C-5993-41D1-9F31-CCC71A9C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6BC0-C06E-4654-8BE6-FE366C61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9D01-9C9C-48C9-BD86-3EBCDBBC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7909-4F6A-46C0-B0DA-36B1945F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3ACF-E4DD-45A4-BABC-D09046F3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70E-5660-48F3-9013-4455B988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5B8-9FA8-40BB-B13A-D74096BC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29B-0F47-473F-A0ED-B444FE18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DA9-8E4E-4CD0-9086-5DA97E4C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77A-7DD6-4E3E-97A1-229FBA07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D03-035E-49A1-922B-AD6AC67F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B71-E225-4FDD-897D-9F1DCB4D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762B-D9BE-4762-BD9B-C0453C7E529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D1F6-2753-48A7-A6B2-28071A09CEE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АРИЕРНО РАЗВИТ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omic Sans MS"/>
              </a:rPr>
              <a:t>ІV А КЛАС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omic Sans MS"/>
              </a:rPr>
              <a:t>Посещение в “КАТЕКС” А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2276280"/>
            <a:ext cx="7696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ружеството "Катекс" e създадено през 1889 г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оизводството е съсредоточено върху вълнен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ъкани, както и смеси от вълна с вискоза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ен и кашмир. По размер на пазарната с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апитализация е лидер сред компаниит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т текстилния сектор, търгувани н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ългарската фондова борса. Обемът 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годишното му производство надхвърл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5 млн. метра готови тъкани. Основните м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лиенти са компании от Западна Европ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Щ и Канада, както и такива от Русия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зточна Европа и Близкият изток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168360" cy="1871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77080" y="2781360"/>
            <a:ext cx="1673280" cy="390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148360" y="836640"/>
            <a:ext cx="2095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2879640" cy="3840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3041640" cy="4055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780000" y="717480"/>
            <a:ext cx="192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5640" y="836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юбезните ни домакини 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зказаха  за историят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стоящето на фабрика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зведоха ни из халетат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2881440" cy="2814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272400" y="1052640"/>
            <a:ext cx="499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идяхме класьорите с мос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огромните машини, които преработв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ълната от суров материал в преж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плат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3151440" cy="4200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00720" y="2637000"/>
            <a:ext cx="2987640" cy="3983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77920" y="1125360"/>
            <a:ext cx="42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есенаторите ни показаха катало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компютърни програми, от кои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обихме представа за платов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3365280" cy="4488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48360" y="2349360"/>
            <a:ext cx="3041640" cy="4056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427640" y="861840"/>
            <a:ext cx="35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стествен интерес предизв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естоят ни в моделиерна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ъдето 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змислят десен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637080" cy="4848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3313440" cy="4416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211640" y="1052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 малки лупи се броят нишк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 вертикали и хоризон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04:50:10Z</dcterms:created>
  <dc:creator>Home</dc:creator>
  <dc:description/>
  <dc:language>en-US</dc:language>
  <cp:lastModifiedBy>Home</cp:lastModifiedBy>
  <dcterms:modified xsi:type="dcterms:W3CDTF">2013-05-20T05:33:20Z</dcterms:modified>
  <cp:revision>2</cp:revision>
  <dc:subject/>
  <dc:title>КАРИЕРНО РАЗВИТИЕ</dc:title>
</cp:coreProperties>
</file>